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957-64F1-407F-983C-462C27C5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392-ADAA-4651-A1C8-AFFB815F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E06-A91C-4EED-BEA5-D9FD8EC1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2A4-E33E-432E-A819-1FE41744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454-B1A0-4098-A5EC-F44DA1BA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1FF-0D07-4D91-A819-F4145B0A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F32-16FD-439A-91DD-C1CDB63B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6F6-4F1D-43AE-897A-CF754946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2E8-369A-4D8C-ACCA-8F9093B2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CBC-441E-4684-95DA-5EDD4D0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4B6-08E0-4E50-948A-B1F1E0C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856-174C-48AE-AF5A-89FD051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C8A-2212-47BB-B765-5089217B588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5 Čoskoro sa na ze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Čoskoro sa na zem vráti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án Ježiš, náš Kráľ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ezme k sebe svojich verných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sám nám sľub ten d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ých vykúpených k seb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i priv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mu srdce odovzd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lásky, úprim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to každý, veľký,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Pána chv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do svojej večnej sláv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by všetkých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í, čo budú priprav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musia sa b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edlho budú Pá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ť už priví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7:09:49Z</dcterms:modified>
  <cp:revision>86</cp:revision>
  <dc:subject/>
  <dc:title>Je veľký náš Pán, on slávy je Kráľ Nech do všetkých strán  spev vrúcnych znie chvál.</dc:title>
</cp:coreProperties>
</file>